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BAE-0A86-481B-AC93-B1F4D27F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475-A492-45EB-8E19-F5627422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44D-536A-4F97-BE64-70B86CBF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50A-6AB1-4FBE-92DE-7686A7AD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370-25B9-4459-B0C8-A2A668E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244-0037-4E76-809E-9478045B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7BE-16B1-4C1D-8EAD-E7EF0B31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FBF-B1FC-4A36-86CD-877A844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611-9943-4166-AA61-3BA02CE8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9C6-FCEE-4037-8E52-BB5124C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039-61AE-4534-BCAC-E2028FB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20D-08D1-49B6-BFCE-28527D1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3A3E-A271-42F5-BD4F-E695AB6596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0"/>
            <a:ext cx="7537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i nombre es _____ y nací en la ciudad _______ de Málaga en 1881. Desde pequeño ______ la pintura. Mi padre, pintor y ____________,  guió mis primeros pasos. Los _____ y las _________, qué eran sus _______ , poblaron _______ de mi infa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studié arte en ________ , __________ y _____, pero la formación académica nunca me entusiasmó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o mío era buscar nuevos caminos y estar siempre _____________  e influencias nuevas._________‘El Quatre Gats’, en ________, era mi sitio ideal. Allí conocí a varios de mis grandes ________ poetas y pint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ero mi gran sueño era conocer _______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56520" y="3146400"/>
            <a:ext cx="85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b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74960" y="372744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spaño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79440" y="3098880"/>
            <a:ext cx="117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me gust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8640" y="3108240"/>
            <a:ext cx="191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rofesor de a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33465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o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23120" y="375588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l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440" y="3575160"/>
            <a:ext cx="113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asi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3070080"/>
            <a:ext cx="13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los dibuj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2898720"/>
            <a:ext cx="123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La Coruñ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3794040"/>
            <a:ext cx="12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rcelo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5880" y="2841480"/>
            <a:ext cx="102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Madr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0920" y="2841480"/>
            <a:ext cx="170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abierto a ide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8640" y="3736800"/>
            <a:ext cx="965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El café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1040" y="3851280"/>
            <a:ext cx="1270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080" y="3546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mi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353700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rí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48:29Z</dcterms:created>
  <dc:creator>Katy Oliver</dc:creator>
  <dc:description/>
  <dc:language>en-US</dc:language>
  <cp:lastModifiedBy>Katy Oliver</cp:lastModifiedBy>
  <dcterms:modified xsi:type="dcterms:W3CDTF">2012-03-02T06:48:30Z</dcterms:modified>
  <cp:revision>1</cp:revision>
  <dc:subject/>
  <dc:title>Slide 1</dc:title>
</cp:coreProperties>
</file>